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6.png" ContentType="image/png"/>
  <Override PartName="/ppt/media/image10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5DC8-5172-411D-8681-70BAA4F6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9042-779E-4FCC-8347-90ADF8EE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56CF-056E-40AF-BDB0-8558FB1E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84CE-4D5E-4E52-BB9D-28AD8D76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C3F1-F010-4DF0-9196-F6DDE0EA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662E-5599-4D03-98C4-47DA009F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5968-684A-4936-8CE4-AA0145B8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F005-1ADD-4DBB-941B-39FB4134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7C96-B452-4AC6-A356-3E8377D3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4E7D-F884-4DF6-9390-3952EBCF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5DD7-9D8C-4E46-8580-E7EB3D35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158D-876A-4162-B639-44839741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2E09-014C-47B0-A260-D12B3653C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5.wmf"/><Relationship Id="rId24" Type="http://schemas.openxmlformats.org/officeDocument/2006/relationships/image" Target="../media/image16.png"/><Relationship Id="rId2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1752480"/>
            <a:ext cx="6553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ксиомы стереометрии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3581280"/>
            <a:ext cx="47242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шение задач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629400" y="4267080"/>
            <a:ext cx="1989000" cy="1981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9400" y="5938920"/>
            <a:ext cx="457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ухорукова Е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ОУ «Борисовская СОШ №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Параллельные прямые в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259092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066680" y="2819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447920" y="304776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457200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4191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705720" y="487656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26280" y="510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252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31200" y="5562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9744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400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27432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 в пространстве 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параллельными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, если они лежат в одной плоскости и не пересекаю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4920" y="5068800"/>
            <a:ext cx="516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, которые не пересек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и не лежат в одной плоск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скрещивающими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араллелепипеде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A…D</a:t>
            </a:r>
            <a:r>
              <a:rPr b="0" lang="ru-RU" sz="1200" spc="-1" strike="noStrike">
                <a:solidFill>
                  <a:srgbClr val="00808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укажите параллельные и скрещивающиеся пря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2666880"/>
            <a:ext cx="2438280" cy="26672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05520" y="47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581280" y="4419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428640" y="4724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200040" y="4952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97144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45000" y="5257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8320" y="30481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8520" y="441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8160" y="23623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1880" y="4495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35920" y="23623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5012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02400" y="312408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ирамиде 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ABCD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укажите все пары скрещивающихся пря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437920" y="2666880"/>
            <a:ext cx="12956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2666880"/>
            <a:ext cx="10666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44956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200400" y="449532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200400" y="2666880"/>
            <a:ext cx="53352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3552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26080" y="426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92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9400" y="2286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219320" y="457200"/>
            <a:ext cx="6933600" cy="6171840"/>
            <a:chOff x="1219320" y="457200"/>
            <a:chExt cx="6933600" cy="6171840"/>
          </a:xfrm>
        </p:grpSpPr>
        <p:sp>
          <p:nvSpPr>
            <p:cNvPr id="259" name=""/>
            <p:cNvSpPr/>
            <p:nvPr/>
          </p:nvSpPr>
          <p:spPr>
            <a:xfrm>
              <a:off x="1219320" y="1737000"/>
              <a:ext cx="6933600" cy="3101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99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3113280" y="4684680"/>
              <a:ext cx="4692960" cy="19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3"/>
            <a:stretch/>
          </p:blipFill>
          <p:spPr>
            <a:xfrm>
              <a:off x="2711160" y="457200"/>
              <a:ext cx="3754080" cy="14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"/>
          <p:cNvSpPr txBox="1"/>
          <p:nvPr/>
        </p:nvSpPr>
        <p:spPr>
          <a:xfrm>
            <a:off x="2286000" y="2743200"/>
            <a:ext cx="4876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04920" y="762120"/>
            <a:ext cx="8381880" cy="5943600"/>
            <a:chOff x="304920" y="762120"/>
            <a:chExt cx="8381880" cy="5943600"/>
          </a:xfrm>
        </p:grpSpPr>
        <p:sp>
          <p:nvSpPr>
            <p:cNvPr id="46" name=""/>
            <p:cNvSpPr/>
            <p:nvPr/>
          </p:nvSpPr>
          <p:spPr>
            <a:xfrm>
              <a:off x="3200400" y="52196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52196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00400" y="37339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37339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0400" y="22478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2478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00400" y="7621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7621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7621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22478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373392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52196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67057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00400" y="762120"/>
              <a:ext cx="0" cy="59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8680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99072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две точки пространства проходит единственная пря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362320"/>
            <a:ext cx="5257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три точки пространства, не принадлежащие одной прямой,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96252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две плоскости имеют общую точку, то 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5334120"/>
            <a:ext cx="5486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Существуют по крайней мере четыре точки, не принадлежащие одн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2133720" cy="106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789280" cy="1013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09480" y="5410080"/>
            <a:ext cx="2371680" cy="1054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09480" y="3733920"/>
            <a:ext cx="2286000" cy="1417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3733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304920" y="762120"/>
            <a:ext cx="8458200" cy="5478480"/>
            <a:chOff x="304920" y="762120"/>
            <a:chExt cx="8458200" cy="5478480"/>
          </a:xfrm>
        </p:grpSpPr>
        <p:sp>
          <p:nvSpPr>
            <p:cNvPr id="72" name=""/>
            <p:cNvSpPr/>
            <p:nvPr/>
          </p:nvSpPr>
          <p:spPr>
            <a:xfrm>
              <a:off x="3200400" y="4456080"/>
              <a:ext cx="556272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920" y="4456080"/>
              <a:ext cx="289548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2666880"/>
              <a:ext cx="556272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920" y="2666880"/>
              <a:ext cx="289548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00400" y="762120"/>
              <a:ext cx="55627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920" y="762120"/>
              <a:ext cx="289548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920" y="76212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4920" y="26668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920" y="44560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920" y="624060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00400" y="762120"/>
              <a:ext cx="0" cy="547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7631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352680" y="914400"/>
            <a:ext cx="5029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прямая имеет с плоскостью две общие точки, то она лежит в эт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28195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прямую и не принадлежащую ей точку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46483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две пересекающиеся прямые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2371680" cy="706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2371680" cy="706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09480" y="4952880"/>
            <a:ext cx="237168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791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Times New Roman Cyr"/>
              </a:rPr>
              <a:t>Ответ: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 а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C</a:t>
            </a:r>
            <a:r>
              <a:rPr b="0" i="1" lang="ru-RU" sz="2400" spc="-1" strike="noStrike">
                <a:solidFill>
                  <a:srgbClr val="ff3300"/>
                </a:solidFill>
                <a:latin typeface="Times New Roman Cyr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должны принадлежать одной прямой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;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б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должны принадлежать одн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7200" y="914400"/>
            <a:ext cx="8077320" cy="1922760"/>
            <a:chOff x="457200" y="914400"/>
            <a:chExt cx="8077320" cy="1922760"/>
          </a:xfrm>
        </p:grpSpPr>
        <p:sp>
          <p:nvSpPr>
            <p:cNvPr id="94" name=""/>
            <p:cNvSpPr/>
            <p:nvPr/>
          </p:nvSpPr>
          <p:spPr>
            <a:xfrm>
              <a:off x="457200" y="914400"/>
              <a:ext cx="7924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Найдите ошибку на рисунк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</a:rPr>
                <a:t>ах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если: а)  и  - две пересекающиеся плоскости, и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A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B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как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так 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; б)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- три попарно пересекающиеся плоскости, причем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K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L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плоскостям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а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N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O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P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–плоскостям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5" name=""/>
            <p:cNvGraphicFramePr/>
            <p:nvPr/>
          </p:nvGraphicFramePr>
          <p:xfrm>
            <a:off x="6477120" y="1066680"/>
            <a:ext cx="228600" cy="216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77120" y="106668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7182000" y="1009800"/>
            <a:ext cx="190440" cy="330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82000" y="1009800"/>
                      <a:ext cx="19044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990720" y="1828800"/>
            <a:ext cx="228600" cy="216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907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2133720" y="1752480"/>
            <a:ext cx="190440" cy="330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"/>
            <p:cNvGraphicFramePr/>
            <p:nvPr/>
          </p:nvGraphicFramePr>
          <p:xfrm>
            <a:off x="2819520" y="1828800"/>
            <a:ext cx="228600" cy="216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8195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3276720" y="1752480"/>
            <a:ext cx="190440" cy="330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276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3740040" y="1784520"/>
            <a:ext cx="177840" cy="2664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740040" y="1784520"/>
                      <a:ext cx="177840" cy="26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"/>
            <p:cNvGraphicFramePr/>
            <p:nvPr/>
          </p:nvGraphicFramePr>
          <p:xfrm>
            <a:off x="8305920" y="2133720"/>
            <a:ext cx="228600" cy="2156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8305920" y="21337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"/>
            <p:cNvGraphicFramePr/>
            <p:nvPr/>
          </p:nvGraphicFramePr>
          <p:xfrm>
            <a:off x="838080" y="2438280"/>
            <a:ext cx="190800" cy="33048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838080" y="2438280"/>
                      <a:ext cx="19080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"/>
            <p:cNvGraphicFramePr/>
            <p:nvPr/>
          </p:nvGraphicFramePr>
          <p:xfrm>
            <a:off x="5105520" y="2514600"/>
            <a:ext cx="228600" cy="2160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105520" y="25146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"/>
            <p:cNvGraphicFramePr/>
            <p:nvPr/>
          </p:nvGraphicFramePr>
          <p:xfrm>
            <a:off x="5715000" y="2514600"/>
            <a:ext cx="177840" cy="2667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5715000" y="2514600"/>
                      <a:ext cx="1778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7" name="" descr=""/>
          <p:cNvPicPr/>
          <p:nvPr/>
        </p:nvPicPr>
        <p:blipFill>
          <a:blip r:embed="rId24"/>
          <a:stretch/>
        </p:blipFill>
        <p:spPr>
          <a:xfrm>
            <a:off x="533520" y="2743200"/>
            <a:ext cx="80038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3520" y="5410080"/>
            <a:ext cx="2819160" cy="459720"/>
            <a:chOff x="533520" y="5410080"/>
            <a:chExt cx="2819160" cy="459720"/>
          </a:xfrm>
        </p:grpSpPr>
        <p:sp>
          <p:nvSpPr>
            <p:cNvPr id="120" name=""/>
            <p:cNvSpPr/>
            <p:nvPr/>
          </p:nvSpPr>
          <p:spPr>
            <a:xfrm>
              <a:off x="533520" y="54100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</a:rPr>
                <a:t>Ответ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 Cyr"/>
                </a:rPr>
                <a:t>: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1523880" y="5486040"/>
            <a:ext cx="774360" cy="343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5486040"/>
                      <a:ext cx="7743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3" name=""/>
          <p:cNvGrpSpPr/>
          <p:nvPr/>
        </p:nvGrpSpPr>
        <p:grpSpPr>
          <a:xfrm>
            <a:off x="380880" y="1371600"/>
            <a:ext cx="7925040" cy="3586320"/>
            <a:chOff x="380880" y="1371600"/>
            <a:chExt cx="7925040" cy="3586320"/>
          </a:xfrm>
        </p:grpSpPr>
        <p:sp>
          <p:nvSpPr>
            <p:cNvPr id="124" name=""/>
            <p:cNvSpPr/>
            <p:nvPr/>
          </p:nvSpPr>
          <p:spPr>
            <a:xfrm>
              <a:off x="380880" y="1371600"/>
              <a:ext cx="792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Определите по рисунку плоскостям каких фигур принадлежит точка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лоскости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4800600" y="1905120"/>
            <a:ext cx="228600" cy="215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00600" y="19051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>
              <a:off x="1676520" y="2743200"/>
              <a:ext cx="5438520" cy="221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Найдите ошибку на чертеже. Дайте объяс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43828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rot="10800000">
            <a:off x="1065600" y="365724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8954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057400" y="2895480"/>
            <a:ext cx="5335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36576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8320" y="44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428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400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45000" y="3657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7280" y="40384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35160" y="3581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9400" y="621180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очка М не принадлежит 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Как расположены относительно друг друга плоскост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 Ответ объясните. При необходимости дополните 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96252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411480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289548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3962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3962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4280" y="4495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252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060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3080" y="35053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0" y="4724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97440" y="3505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297180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858000" y="37339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768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960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768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20640" y="35416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14440" y="48369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6452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715000"/>
            <a:ext cx="949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.к. плоскости имеют одну общую точку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Сколько плоскостей можно провести через прямую 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371600" y="335232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16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6095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бесконечно 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6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Как расположены плоскост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167616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780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952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3096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571464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294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2628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800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944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943600" y="45720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3124080"/>
            <a:ext cx="2286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162560" y="3124080"/>
            <a:ext cx="75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4680" y="613584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ересекаются по прямой, содержащей точку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0-08T02:30:40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